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6E42-5C51-45EB-BB5B-1FD90E7A0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7871-405E-4257-BF66-FFF0D169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3D26-25A3-4D3A-B044-10AF8B561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040F-C53B-4338-A8CA-A26C230C5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22FF-0973-4B17-A225-5DC6FF05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3CAD-8B74-4008-92CF-73674226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D614-EE26-46B1-B809-36AFB9D0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05CC-A764-45D2-9F3C-9EDAD63F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2148-43B7-47FD-A8AB-7913439E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F54D-A5A3-42C5-8E73-BA1BE374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E70D-D873-4D32-95D9-1E5CA2DF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5887-7FF0-47C4-83FF-A604FBBD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261B-0BEB-4314-85A1-C135236B21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ent Ev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7617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oose a news story that interests you and bring it to share with the clas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arize the main points in a paragraph or point form.  Include the heading and any important names, dates or pla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 Include where you found or heard the story.     What’s the source?  (radio station, tv station, show, newspaper, online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 Is it from a reliable sour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 Is this story local, provincial, national or global new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2:03:12Z</dcterms:created>
  <dc:creator>ED18</dc:creator>
  <dc:description/>
  <dc:language>en-US</dc:language>
  <cp:lastModifiedBy>ED18</cp:lastModifiedBy>
  <cp:lastPrinted>2011-09-16T16:58:11Z</cp:lastPrinted>
  <dcterms:modified xsi:type="dcterms:W3CDTF">2013-09-20T10:15:06Z</dcterms:modified>
  <cp:revision>7</cp:revision>
  <dc:subject/>
  <dc:title>Current Events</dc:title>
</cp:coreProperties>
</file>